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394-0DED-4FB4-9C75-86464239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FD0-DC1F-4FCE-92CC-FD43BF26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9FE-6C9D-4748-B992-40909BBD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5B7-693B-4414-BF65-DF8BBE83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DD1-92DB-40B1-972C-265C5ED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93B-EF82-49CB-ABCD-D464122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214-F195-4001-BB0A-4D26F1D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A37-570E-49EF-BD79-5DFF97B5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C08-0BC0-4F1D-9CE6-28DC93E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B77-F4A1-4EFF-8E95-6F52444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C0E-E9A3-40CD-89B6-A3A05B5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465-537E-4B28-BFD3-2469764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6B06-8150-429D-8EE6-9A697EFDFE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ne Fles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lizabeth Jen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lots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r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s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eckage or cargo found floating after a shipwr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 an earli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dmission of wrongdoing</a:t>
            </a:r>
            <a:r>
              <a:rPr b="0" lang="en-GB" sz="28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not having sexual intercourse 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62864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hrase used to make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more vivid by using ‘like’ or ‘as’ to compare two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cp:lastPrinted>2014-12-03T09:58:36Z</cp:lastPrinted>
  <dcterms:modified xsi:type="dcterms:W3CDTF">2015-01-13T12:21:04Z</dcterms:modified>
  <cp:revision>19</cp:revision>
  <dc:subject/>
  <dc:title>La Belle Dame Sans Merci</dc:title>
</cp:coreProperties>
</file>